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4AA-FD06-4365-B917-9FCE6E29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343-A538-4101-AEAA-DE37378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1E6-1F1C-4ECB-BDFC-62027701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F97-7946-4A78-9A59-7D39ECF7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E7DB-22F0-4093-9F86-3059832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AA9B-F7A5-4D2E-84FA-97F7230F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503E-5FC8-4764-96BD-31916F48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A52-85FD-4448-9D9A-D2CABD9C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C4FC-9C85-4834-9E73-1C77C24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5F4C-711A-4237-9546-00C72CB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6B9C-6E20-491A-B6A1-23AB515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9F4-5752-4D89-B20A-56F56BD4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943D-A2D8-4DC1-BE83-D3A43CC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E7FF-4D57-4B74-9C09-3FBE012B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25FC-059E-4E97-90A2-4E5EF611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0EF8-1D89-44ED-8DCF-6DDACFD2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1AF5-FA02-4954-836B-F2F4E499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0E0-4554-4131-9C75-489024ED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34B-0DF8-4F32-85CC-ED6C1FD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F20-1767-4245-8E3F-2D2EA395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BAC-36CA-4400-9552-9EFAB9AC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5F6-D8AB-43FA-A183-1D3F40CA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A3C-1E99-45E1-9EB4-0AC70F3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3FE-4947-4C49-AC4C-2E4A5E22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00DE-E8E8-4593-988E-BF9E6AC75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DE71-8F2B-45D2-8F44-21BBF5692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rly Republic of R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cial Structure, Government, &amp; Milit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r. Paglia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day’s Key Vocabul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atric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upper class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lebei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common citizens of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elve T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ist of rights and duties of Roman citizens (est. 450 B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s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ed the Roman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law making body in R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ibu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presentatives of Rome’s commo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Early Republic: Social Structure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523880"/>
          <a:ext cx="8229600" cy="496584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c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ebeia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WEALTHY</a:t>
                      </a: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LED GOVERN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INHERITED 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HANGED LAWS TO SUIT NEED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ircle one:            Majority    OR    Min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Key poin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OMMON CITIZENS (MERCHANTS, ARTISANS, FARM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HAD VOTING RIGH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OULDN’T HOLD MAJOR GOVERNMENT POSI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2b5481"/>
                        </a:buClr>
                        <a:buSzPct val="6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UNCLEAR RIGHTS/RESPONSIBILITI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Twelve Tab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Cau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Purpose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2b5481"/>
                          </a:solidFill>
                          <a:latin typeface="Times New Roman"/>
                          <a:ea typeface="Times New Roman"/>
                        </a:rPr>
                        <a:t>Effects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e Early Republic: Government &amp; Milita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066680"/>
            <a:ext cx="8228880" cy="5027400"/>
            <a:chOff x="457200" y="1066680"/>
            <a:chExt cx="8228880" cy="5027400"/>
          </a:xfrm>
        </p:grpSpPr>
        <p:cxnSp>
          <p:nvCxnSpPr>
            <p:cNvPr id="90" name="_s3792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508360" y="213948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7927"/>
            <p:cNvCxnSpPr>
              <a:stCxn id="94" idx="0"/>
              <a:endCxn id="92" idx="2"/>
            </p:cNvCxnSpPr>
            <p:nvPr/>
          </p:nvCxnSpPr>
          <p:spPr>
            <a:xfrm flipV="1">
              <a:off x="4571280" y="3076920"/>
              <a:ext cx="3240" cy="100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3792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2628360" y="2139840"/>
              <a:ext cx="1006200" cy="2880720"/>
            </a:xfrm>
            <a:prstGeom prst="bentConnector3">
              <a:avLst>
                <a:gd name="adj1" fmla="val 113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37922"/>
            <p:cNvSpPr/>
            <p:nvPr/>
          </p:nvSpPr>
          <p:spPr>
            <a:xfrm>
              <a:off x="3337200" y="106668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Consuls: (2)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tricia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 ye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Led government &amp; arm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7923"/>
            <p:cNvSpPr/>
            <p:nvPr/>
          </p:nvSpPr>
          <p:spPr>
            <a:xfrm>
              <a:off x="45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Senate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las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tricia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 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For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ake Law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37924"/>
            <p:cNvSpPr/>
            <p:nvPr/>
          </p:nvSpPr>
          <p:spPr>
            <a:xfrm>
              <a:off x="333720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enturiate Assembly</a:t>
              </a: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: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Members-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Soldi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Term- For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Role-  Elect Consuls &amp; judges,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and Make Law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37925"/>
            <p:cNvSpPr/>
            <p:nvPr/>
          </p:nvSpPr>
          <p:spPr>
            <a:xfrm>
              <a:off x="6217560" y="4083120"/>
              <a:ext cx="2468520" cy="2010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_s1033"/>
          <p:cNvSpPr/>
          <p:nvPr/>
        </p:nvSpPr>
        <p:spPr>
          <a:xfrm>
            <a:off x="6172200" y="4038480"/>
            <a:ext cx="2514600" cy="2057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bal Assembly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mbers-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l citiz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-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le- Elect Tribunes, Make 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952880" y="1076400"/>
            <a:ext cx="4038840" cy="2806560"/>
            <a:chOff x="4952880" y="1076400"/>
            <a:chExt cx="4038840" cy="2806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952880" y="1828800"/>
              <a:ext cx="243864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58280" y="1076400"/>
              <a:ext cx="1333440" cy="1514520"/>
            </a:xfrm>
            <a:prstGeom prst="borderCallout1">
              <a:avLst>
                <a:gd name="adj1" fmla="val 18750"/>
                <a:gd name="adj2" fmla="val -8333"/>
                <a:gd name="adj3" fmla="val 67296"/>
                <a:gd name="adj4" fmla="val -60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raetor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Judicial Bran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Oversee courts and provinces of Ro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523880"/>
            <a:ext cx="8077320" cy="44197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Snap ITC"/>
              </a:rPr>
              <a:t>Dicta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Absolute 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Term:6 mont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e5ffff"/>
              </a:buClr>
              <a:buFont typeface="Albert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ffff"/>
                </a:solidFill>
                <a:latin typeface="Albertus"/>
              </a:rPr>
              <a:t>When? In times of CRI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t matters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of the fundamental values and institutions of Western civilization began in the Roman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overnment of United States is based upon the Roman Repub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5:01:01Z</dcterms:created>
  <dc:creator>cpagliaro</dc:creator>
  <dc:description/>
  <dc:language>en-US</dc:language>
  <cp:lastModifiedBy>cpagliaro</cp:lastModifiedBy>
  <dcterms:modified xsi:type="dcterms:W3CDTF">2008-12-17T15:27:05Z</dcterms:modified>
  <cp:revision>5</cp:revision>
  <dc:subject/>
  <dc:title>The Early Republic of Rome</dc:title>
</cp:coreProperties>
</file>